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9C7-78F2-4405-9923-5E5A0DB7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8361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EFE-0D10-45D8-8207-65D32B02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250-582F-46F5-8CA3-02F87B13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A8F-540D-4841-B48A-43B8D2CF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0ED3-428E-453E-A1D5-5631410A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4000-BF05-4B16-9E3F-DA4F7B2F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5775-6640-4993-AA8E-D166805B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B047-2AF6-4518-B8E1-0FEF2AC5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C0D0-4071-417F-8A6E-4283AFF3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4340-D7D5-4FFF-A10A-97A96261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143E-BFA1-4A6C-8B25-B7F2773E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5E1-8FB9-4B24-BF23-701D59A0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545A-33A5-4AA5-A905-D18F9D81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78FC-810B-4A0E-B257-4389318C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8361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497C-C04B-49DB-A3E5-2DC86CC4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FA3B-F55B-45F6-BE31-1CDB3964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9121-2DBB-439A-B725-3206D4B9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2E1-1A68-4001-997D-7663BED4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907-EC87-4F5D-A85E-5AAD1C47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882-B16B-44D0-9689-6DBF23E0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5E0-DC37-46F7-AD1B-991EDCA5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9A5-8A01-47E9-8EE1-6FAFC3E9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1BB-F389-4608-99A8-BAE967EC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743-55AD-4F60-A1BC-E21AE13C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54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172200"/>
            <a:ext cx="408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B64C-C986-45F4-8F0D-1FEDD668AC26}" type="slidenum">
              <a:rPr b="0" lang="ro-RO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519444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E058-9D99-4467-A54D-446CF1069856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519444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Cine suntem  noi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6032160"/>
            <a:ext cx="6400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Trancă Rareş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Iona Gherma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Clasa a VII-a 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95640" y="189000"/>
            <a:ext cx="3495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Suntem  copiii voştri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,,Eu sunt copil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Tu ţii în mâinile tale destinul me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Tu determini în cea mai mare măsură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Dacă voi reuşi sau voi eşua în viaţ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Dă-mi, te rog, acele lucruri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să mă îndrepte spre feric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Educă-mă, te rog, ca să pot f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O binecuvântare pentru lum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(Child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`s A</a:t>
            </a: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ppeal, Mamie Gene Co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ZIUA INTERNATIONALĂ A COPILULU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Z</a:t>
            </a:r>
            <a:r>
              <a:rPr b="1" lang="ro-RO" sz="1800" spc="-1" strike="noStrike">
                <a:solidFill>
                  <a:srgbClr val="006600"/>
                </a:solidFill>
                <a:latin typeface="Tahoma"/>
              </a:rPr>
              <a:t>iua Internaţională a Copilului este sărbătorită în numeroase ţări, de regulă (dar nu obligatoriu) pe data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6600"/>
                </a:solidFill>
                <a:latin typeface="Tahoma"/>
              </a:rPr>
              <a:t>1 Iunie a fiecărui an. Celebrarea unei Zile dedicate Copiilor îşi are originile în Turcia din anul 1920 şi ma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6600"/>
                </a:solidFill>
                <a:latin typeface="Tahoma"/>
              </a:rPr>
              <a:t>târziu în cadrul Conferinţei Mondiale a Bunăstării Copiilor de la Geneva, Elveţia, ce a avut loc în 1925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1" lang="ro-RO" sz="1800" spc="-1" strike="noStrike">
                <a:solidFill>
                  <a:srgbClr val="006600"/>
                </a:solidFill>
                <a:latin typeface="Tahoma"/>
              </a:rPr>
              <a:t>Nu este foarte clar de ce 1 Iunie a fost aleasă în cele din urmă ca Ziua Copilului. Una dintre teorii susţin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6600"/>
                </a:solidFill>
                <a:latin typeface="Tahoma"/>
              </a:rPr>
              <a:t>că în 1925 ,consulul general chinez din San Francisco, SUA, a organizat o mică adunare a copiilor chinez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6600"/>
                </a:solidFill>
                <a:latin typeface="Tahoma"/>
              </a:rPr>
              <a:t>orfani ,pentru a sărbători Festivalul Dragonului . Celebrarea a avut loc pe 1 iunie în acel an, fapt ce 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6600"/>
                </a:solidFill>
                <a:latin typeface="Tahoma"/>
              </a:rPr>
              <a:t>coincis şi cu conferinţa ţinută la Genev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4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72072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Prin ging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ăş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ia lor copiii sunt usor de iubit. 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Nu po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ţ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i s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ă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 nu-i iube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ş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ti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Calitatea sufletului copilului este nealterat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ă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. Sinceritatea 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ş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i puritat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lui ne impresioneaz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ă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. 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Voia buna, sur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â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sul ginga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ş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 al copiilo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s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ă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de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ş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te 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î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n noi speran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ţ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a de mai b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9640" cy="2276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172280" y="4095720"/>
            <a:ext cx="1971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Copilul are dreptul la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56760" y="2019240"/>
            <a:ext cx="6782040" cy="3429360"/>
          </a:xfrm>
          <a:prstGeom prst="rect">
            <a:avLst/>
          </a:prstGeom>
          <a:solidFill>
            <a:srgbClr val="dbc8a1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L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ibertatea de exprimare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L</a:t>
            </a:r>
            <a:r>
              <a:rPr b="1" lang="fr-FR" sz="1200" spc="-1" strike="noStrike">
                <a:solidFill>
                  <a:srgbClr val="000066"/>
                </a:solidFill>
                <a:latin typeface="Tahoma"/>
              </a:rPr>
              <a:t>ibertatea de g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â</a:t>
            </a:r>
            <a:r>
              <a:rPr b="1" lang="fr-FR" sz="1200" spc="-1" strike="noStrike">
                <a:solidFill>
                  <a:srgbClr val="000066"/>
                </a:solidFill>
                <a:latin typeface="Tahoma"/>
              </a:rPr>
              <a:t>ndire,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FR" sz="1200" spc="-1" strike="noStrike">
                <a:solidFill>
                  <a:srgbClr val="000066"/>
                </a:solidFill>
                <a:latin typeface="Tahoma"/>
              </a:rPr>
              <a:t>de con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fr-FR" sz="1200" spc="-1" strike="noStrike">
                <a:solidFill>
                  <a:srgbClr val="000066"/>
                </a:solidFill>
                <a:latin typeface="Tahoma"/>
              </a:rPr>
              <a:t>tiin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ţă</a:t>
            </a:r>
            <a:r>
              <a:rPr b="1" lang="fr-FR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şi</a:t>
            </a:r>
            <a:r>
              <a:rPr b="1" lang="fr-FR" sz="1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Tahoma"/>
              </a:rPr>
              <a:t>religi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P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rin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ţ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ii sau, dup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 caz, reprezentan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ţ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ii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s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i legali sunt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principalii responsabili 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c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re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terea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ş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i dezvoltarea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copilului.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P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rotejarea copilului 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î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mpotriva oric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ro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forme de violen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ţ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, v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t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mare sau abuz,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fizic sau mental, de abandon sau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neglijenta, de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rele tratamen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sau de exploatare, inclusiv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abuz sexual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P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entru copiii handicapa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ţ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i fizic 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i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mental trebuie s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se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asigure o via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ţ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î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mplinit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i decent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reptul oric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rui copil de a benefic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de un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nivel de trai care s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 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ermit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dezvoltarea sa fizic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,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mental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spiritual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, moral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i social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. </a:t>
            </a:r>
            <a:br>
              <a:rPr sz="1200"/>
            </a:b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651640" y="2852640"/>
            <a:ext cx="18666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reptul copilului la educa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ţ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e.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reptul la odihn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 la vacan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ţă,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de a participa liber la via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ţ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cultural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 artistic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reptul copilului de a fi protej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î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mpotriva exploat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rii economice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 şi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de 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nu fi constr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â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ns la vreo munc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comporta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vreun risc poten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ţ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al sau c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este susceptibil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s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î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 compromit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preveni r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pirea, v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â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nzarea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traficul de copii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î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n orice scop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 sub oric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form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Să</a:t>
            </a:r>
            <a:r>
              <a:rPr b="1" lang="fr-FR" sz="1400" spc="-1" strike="noStrike">
                <a:solidFill>
                  <a:srgbClr val="000066"/>
                </a:solidFill>
                <a:latin typeface="Tahoma"/>
              </a:rPr>
              <a:t> nu fie supus la tortur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fr-FR" sz="1400" spc="-1" strike="noStrike">
                <a:solidFill>
                  <a:srgbClr val="000066"/>
                </a:solidFill>
                <a:latin typeface="Tahoma"/>
              </a:rPr>
              <a:t>, la pedeps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s</a:t>
            </a:r>
            <a:r>
              <a:rPr b="1" lang="fr-FR" sz="1400" spc="-1" strike="noStrike">
                <a:solidFill>
                  <a:srgbClr val="000066"/>
                </a:solidFill>
                <a:latin typeface="Tahoma"/>
              </a:rPr>
              <a:t>au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Tahoma"/>
              </a:rPr>
              <a:t>la tratamente crude, inumane sau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ahoma"/>
              </a:rPr>
              <a:t>degrada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Statul va lua toate m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suril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corespunzatoare pentru a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facilit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recuperarea fizic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i psihologic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i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reintegrarea social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 a copiilor,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victime al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unei forme de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neglijen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ţă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, exploatare sau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buz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867280" y="3213000"/>
            <a:ext cx="18860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26040" y="3168720"/>
            <a:ext cx="4917960" cy="3689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92480" cy="3070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Copiii de astăzi nu mai au copilăr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Trăiesc în spaţii închise, limitate aproape</a:t>
            </a:r>
            <a:r>
              <a:rPr b="1" lang="ro-RO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tot timpul, în faţa ecranului calculatorului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vorbind zi şi mai ales noapte cu prieteni de peste mări şi ţări, dar neştiind să bată la uşa vecinulu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şi să-l invite pe fiul acestuia la o plimbare cu bicicleta sau o "expediţie“prin </a:t>
            </a:r>
            <a:r>
              <a:rPr b="1" lang="ro-RO" sz="2800" spc="-1" strike="noStrike">
                <a:solidFill>
                  <a:srgbClr val="003366"/>
                </a:solidFill>
                <a:latin typeface="Tahoma"/>
              </a:rPr>
              <a:t> parcurile sa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pădurile din apropie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374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opilaria-i o raz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 de soare, </a:t>
            </a: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E primul 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ş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i cel din urm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 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uv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â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nt. </a:t>
            </a: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E 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ţ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esut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-n aur 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ş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i-n m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rg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ritare. </a:t>
            </a: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opilaria-i o adiere de v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â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nt.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opilaria-i un z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â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mbet, un vis, e veselie </a:t>
            </a: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E pas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rea ce-alunec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-n zare </a:t>
            </a:r>
            <a:br>
              <a:rPr sz="1800"/>
            </a:b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Ş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i-un g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â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nd pribeag de-o ve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ş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nicie. </a:t>
            </a: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opilaria-i o suav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 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floare.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opilaria nu trebuie rapit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, </a:t>
            </a: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i e primul nostru cuv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â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nt. </a:t>
            </a:r>
            <a:br>
              <a:rPr sz="1800"/>
            </a:b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ş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i o comoar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 prea greu g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sit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...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...Copilaria -i o adiere de v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â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nt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Vă mulţumim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Rareş şi Io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3716280"/>
            <a:ext cx="18507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0:29:35Z</dcterms:created>
  <dc:creator>vio</dc:creator>
  <dc:description/>
  <dc:language>en-US</dc:language>
  <cp:lastModifiedBy>vio</cp:lastModifiedBy>
  <dcterms:modified xsi:type="dcterms:W3CDTF">2009-12-11T06:34:56Z</dcterms:modified>
  <cp:revision>3</cp:revision>
  <dc:subject/>
  <dc:title>Cine suntem  noi?</dc:title>
</cp:coreProperties>
</file>